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805-0F20-417A-854E-55D90B9B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44B-73FC-4C09-BDDA-3B8D376F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8B5-A191-416D-8891-1645E409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CB9-5484-41AA-88B8-F6971A43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5CB5-4611-4430-8FD7-4E11ADA4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1F56-9937-4C6D-B873-ECB124CA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FAF0-69BD-440C-ADAE-2560EC99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086A-C74C-4D97-99C2-9D443403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1304-470D-4CB7-B5EB-C1DAF018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2DC8-7BBB-44E3-9657-986C5B51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12A8-7091-4670-8E93-0C220F6D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4B8-A930-4F03-B16A-F632FA8C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CD11-F218-47FB-8BA0-53C7C906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B677-6CFF-43A9-BC3A-25667931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53E3-5E32-44EE-B803-E0BA86C5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4338-656B-4826-A0D7-2F62BB66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F96B-B8E7-4665-AA55-60507EF7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D84-4A75-4637-BB6D-0181F6F1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6B5-D47F-4693-BE89-CD07711C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E6B-510E-463F-9F0D-148C783A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F36-4795-4ABE-B92A-D968BCB1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525-99AF-470A-9423-2EB3B7B5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76E-B819-4625-A7F2-D4B618A9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7B4-9FCE-407C-8349-7D2D4F3A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5EA7-D501-4BBE-A54B-E77758247A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B91E-CE4C-42A3-A381-3C33556AE5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84872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грамма цифровой обработки звуковых сигна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данной выпускной работы - разработка программного средства реализации на персональной ЭВМ возможности цифровой обработки звукового сигнала, представленного в виде отдельных выборок, хранящихся в файл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3049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3048120"/>
            <a:ext cx="79250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сновные функциональные возможности программ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едставление обрабатываемого сигнала в различных форм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Редактирование обрабатываемого сигн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именение фильтров с конечной импульсной характеристи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именение фильтров с бесконечной импульсной характеристи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именение гомоморфных преобразов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оектирование фильт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Наложение звуковых эффе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оздание эффекта объёмности звуч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81680" y="1905120"/>
            <a:ext cx="18288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190512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Фай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1905120"/>
            <a:ext cx="99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Фай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5334120"/>
            <a:ext cx="99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Фай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505320"/>
            <a:ext cx="3352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грамма моделир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боты типов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аналоговых бло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733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иртуаль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генер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3733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иртуаль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сциллогра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5334120"/>
            <a:ext cx="99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Фай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533412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Фай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программного комплекса виртуальной аналоговой маш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191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819520" y="419076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553080" y="419076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077320" y="46479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752480" y="259056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05320" y="25909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2209680"/>
            <a:ext cx="1219320" cy="457200"/>
          </a:xfrm>
          <a:custGeom>
            <a:avLst/>
            <a:gdLst/>
            <a:ahLst/>
            <a:rect l="l" t="t" r="r" b="b"/>
            <a:pathLst>
              <a:path w="1200" h="432">
                <a:moveTo>
                  <a:pt x="0" y="384"/>
                </a:moveTo>
                <a:cubicBezTo>
                  <a:pt x="76" y="192"/>
                  <a:pt x="152" y="0"/>
                  <a:pt x="240" y="0"/>
                </a:cubicBezTo>
                <a:cubicBezTo>
                  <a:pt x="328" y="0"/>
                  <a:pt x="440" y="344"/>
                  <a:pt x="528" y="384"/>
                </a:cubicBezTo>
                <a:cubicBezTo>
                  <a:pt x="616" y="424"/>
                  <a:pt x="696" y="240"/>
                  <a:pt x="768" y="240"/>
                </a:cubicBezTo>
                <a:cubicBezTo>
                  <a:pt x="840" y="240"/>
                  <a:pt x="912" y="360"/>
                  <a:pt x="960" y="384"/>
                </a:cubicBezTo>
                <a:cubicBezTo>
                  <a:pt x="1008" y="408"/>
                  <a:pt x="1016" y="376"/>
                  <a:pt x="1056" y="384"/>
                </a:cubicBezTo>
                <a:cubicBezTo>
                  <a:pt x="1096" y="392"/>
                  <a:pt x="1148" y="412"/>
                  <a:pt x="120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951200"/>
            <a:ext cx="16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Графическ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предст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результа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96080" y="289512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файлов в форма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752480"/>
            <a:ext cx="381024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Заголовок RIF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игнатура «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IFF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размер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5410080"/>
            <a:ext cx="381024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а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(значения выборо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5410080"/>
            <a:ext cx="327168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Необязательный разде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нформации о фай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5791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752480"/>
            <a:ext cx="3352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VE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йл - разновидность файлов форма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F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формат файла для обмена ресурса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 RIFF - структура данных,  определяющая формат файла. Любой фай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IFF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инается с последовательности символо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, I, F, F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лее следует размер файла и данные конкретного ресурса (в данном случа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124080"/>
            <a:ext cx="381024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Заголовок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WA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игнатура «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AVE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оличество канал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частота дискрет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разрядность выбор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ополнительные парамет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505320" y="297180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иблиоте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фильт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5486400"/>
            <a:ext cx="4572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одуль визуального проектир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эффекта объёмности звуч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133720"/>
            <a:ext cx="2362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ходной сигна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419720"/>
            <a:ext cx="2362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ыходной сигна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2133720"/>
            <a:ext cx="28195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Графическое изобра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жение входного сигн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4419720"/>
            <a:ext cx="2819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араметры фильт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971800"/>
            <a:ext cx="2125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азовые оп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едакт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335268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оспроизвед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ходного сигн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а программ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фровой обработки звуковых сигна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752480"/>
            <a:ext cx="7772400" cy="35053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4572000"/>
            <a:ext cx="123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2590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590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2362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3581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72428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2362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3623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4956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981080"/>
            <a:ext cx="1517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ещ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ходного сигн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00200" y="1752480"/>
            <a:ext cx="563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БПФ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5562720"/>
            <a:ext cx="6922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ОБПФ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1752480"/>
            <a:ext cx="13874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Прямая свёртк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4038480"/>
            <a:ext cx="2852640" cy="116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Расчёт ядер КИХ-фильтров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фильтр верхних часто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полосовой пропускающий фильтр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полосовой подавляющий фильтр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многополосовой фильтр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4038480"/>
            <a:ext cx="200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КИХ-фильтры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с заданным ядром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«движущееся среднее»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4038480"/>
            <a:ext cx="220968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Расчёт коэффициентов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БИХ-фильтров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пользовательский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фильтр Чебышев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1752480"/>
            <a:ext cx="20574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Расчёт коэффициентов однополюсового БИХ-фильтр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5181480"/>
            <a:ext cx="38098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Гомоморфные преобразования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с использованием логарифмирования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с использованием логарифмирования и БПФ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1752480"/>
            <a:ext cx="22096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Звуковые эффекты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эхо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хор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реверберация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амплитудная модуляция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синтез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шум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затухание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реверс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752480"/>
            <a:ext cx="582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ДПФ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362320"/>
            <a:ext cx="25416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Функции сглаживающих окон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окно Хэмминг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окно Блэкман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2743200"/>
            <a:ext cx="20574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БИХ-фильтр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5562720"/>
            <a:ext cx="1441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Быстрая свёртк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3276720"/>
            <a:ext cx="20574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Arial"/>
              </a:rPr>
              <a:t>Расчёт ядра НЧ-фильтр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библиотеки фильт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133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21337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324480" y="38862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72400" y="3886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3124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380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2096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220968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60958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586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586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ранные формы входных докум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in1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5096160" cy="311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02" name="in2" descr=""/>
          <p:cNvPicPr/>
          <p:nvPr/>
        </p:nvPicPr>
        <p:blipFill>
          <a:blip r:embed="rId3"/>
          <a:stretch/>
        </p:blipFill>
        <p:spPr>
          <a:xfrm>
            <a:off x="3581280" y="3124080"/>
            <a:ext cx="4984920" cy="3025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3" name=""/>
          <p:cNvSpPr/>
          <p:nvPr/>
        </p:nvSpPr>
        <p:spPr>
          <a:xfrm>
            <a:off x="6477120" y="1828800"/>
            <a:ext cx="245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логовое ок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ов пользовательск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Х-филь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5029200"/>
            <a:ext cx="20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но частотной характеристики проектируемого БИХ-филь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5638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019920" y="2438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ранные формы выходных докум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2_5_2_3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3311640" cy="2079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09" name="2_5_2_4" descr=""/>
          <p:cNvPicPr/>
          <p:nvPr/>
        </p:nvPicPr>
        <p:blipFill>
          <a:blip r:embed="rId3"/>
          <a:stretch/>
        </p:blipFill>
        <p:spPr>
          <a:xfrm>
            <a:off x="4952880" y="3657600"/>
            <a:ext cx="3311640" cy="2079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10" name="2_5_2_1b" descr=""/>
          <p:cNvPicPr/>
          <p:nvPr/>
        </p:nvPicPr>
        <p:blipFill>
          <a:blip r:embed="rId4"/>
          <a:stretch/>
        </p:blipFill>
        <p:spPr>
          <a:xfrm>
            <a:off x="1143000" y="1752480"/>
            <a:ext cx="3314880" cy="1241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11" name="2_5_2_1c" descr=""/>
          <p:cNvPicPr/>
          <p:nvPr/>
        </p:nvPicPr>
        <p:blipFill>
          <a:blip r:embed="rId5"/>
          <a:stretch/>
        </p:blipFill>
        <p:spPr>
          <a:xfrm>
            <a:off x="4952880" y="1752480"/>
            <a:ext cx="3321000" cy="1244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12" name=""/>
          <p:cNvSpPr/>
          <p:nvPr/>
        </p:nvSpPr>
        <p:spPr>
          <a:xfrm>
            <a:off x="1143000" y="30481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документа в вид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вуковой спектрограм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3048120"/>
            <a:ext cx="33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документа в вид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стограммы часто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5791320"/>
            <a:ext cx="33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но модуля проектирования эффекта объёмности звуча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57913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но основной програм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енные и емкост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стики програм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2_8_1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7616880" cy="28558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18" name=""/>
          <p:cNvSpPr/>
          <p:nvPr/>
        </p:nvSpPr>
        <p:spPr>
          <a:xfrm>
            <a:off x="900000" y="2971800"/>
            <a:ext cx="686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енные характеристики алгоритма КИХ-фильтра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- размер яд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фильтр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1676520"/>
            <a:ext cx="380988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Временные характеристи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большинство алгоритмов цифровой обработки сигналов программы имеет временную сложность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O(N)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 или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O(Nlog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1676520"/>
            <a:ext cx="4038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Емкостные характеристи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объём занимаемой дисковой памяти не более 800 К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объём занимаемой оперативной памяти (без учёта объёма документа) не более 1024 К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3T13:18:36Z</dcterms:created>
  <dc:creator>Воинов Сергей</dc:creator>
  <dc:description/>
  <dc:language>en-US</dc:language>
  <cp:lastModifiedBy>Воинов Сергей</cp:lastModifiedBy>
  <cp:lastPrinted>2001-05-13T15:00:02Z</cp:lastPrinted>
  <dcterms:modified xsi:type="dcterms:W3CDTF">2001-06-19T12:35:56Z</dcterms:modified>
  <cp:revision>30</cp:revision>
  <dc:subject/>
  <dc:title>Программа цифровой обработки звуковых сигналов</dc:title>
</cp:coreProperties>
</file>